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FC3-4470-40ED-A4AD-32AFFED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1FC-FA40-4E4D-B382-546E027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440-36CF-4B3E-A23B-B9F984F1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A8F-B728-4582-9AEC-ECEA108F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A54E-D568-414A-A129-B28BD6F7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03BA-1308-44DE-A430-8EAFB48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C6FA-37DF-4A35-B903-09C621F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A1F8-F14E-4CC9-9DFE-55B807E3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61AF-765F-4232-9513-1837748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06A0-8A9E-4896-AC30-B7283387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C0B-C7B6-4B18-820B-A76A9BB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9CC-E99C-40EE-9CDD-F86A6CFA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FD6-9F14-4599-A129-5619A03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7D1B-FE18-43A4-A475-8ABDCF4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48F2-C0D2-46AE-AA41-EDF30CF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4BA-15EC-4B4A-92A8-CAE810E0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39E-0669-4E35-A617-343D6916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56B-0C21-45F9-B7C0-9C38DC3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C3D-E2E8-49CB-9C70-608E5807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F5E-E300-401F-AA7D-2EF90DA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B0B-F783-4E70-9B10-C4E1DBF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F12-6997-432E-892B-F1E3E1A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EA9-1363-48B3-9A03-D169682D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BF2-9178-4D1D-96C6-C8C833A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0A9-8E19-47FB-8199-FF331299AEF6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445A-5BD0-4E46-8909-11606171DAEB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Brand Food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Wyatt Johnson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robl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es off brand foods taste the same as name brand food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ypothesi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predict that the off brand foods will taste just the same as name brand food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2720" y="-4348080"/>
            <a:ext cx="491472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882720" y="-4348080"/>
          <a:ext cx="7331040" cy="15555960"/>
        </p:xfrm>
        <a:graphic>
          <a:graphicData uri="http://schemas.openxmlformats.org/drawingml/2006/table">
            <a:tbl>
              <a:tblPr/>
              <a:tblGrid>
                <a:gridCol w="1213920"/>
                <a:gridCol w="216000"/>
                <a:gridCol w="441000"/>
                <a:gridCol w="606960"/>
                <a:gridCol w="607320"/>
                <a:gridCol w="606960"/>
                <a:gridCol w="606960"/>
                <a:gridCol w="607320"/>
                <a:gridCol w="606960"/>
                <a:gridCol w="606960"/>
                <a:gridCol w="607320"/>
                <a:gridCol w="603360"/>
              </a:tblGrid>
              <a:tr h="5508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name brand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Off brand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336840" y="339840"/>
          <a:ext cx="609480" cy="5173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09800" y="-4348080"/>
            <a:ext cx="49147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82720" y="-4348080"/>
            <a:ext cx="491472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914400" y="2057400"/>
          <a:ext cx="6705720" cy="15525720"/>
        </p:xfrm>
        <a:graphic>
          <a:graphicData uri="http://schemas.openxmlformats.org/drawingml/2006/table">
            <a:tbl>
              <a:tblPr/>
              <a:tblGrid>
                <a:gridCol w="1752480"/>
                <a:gridCol w="281160"/>
                <a:gridCol w="31428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336840" y="339840"/>
          <a:ext cx="609480" cy="5173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09800" y="-4348080"/>
            <a:ext cx="491472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5800" y="1938240"/>
            <a:ext cx="6781680" cy="410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09480" y="1676520"/>
          <a:ext cx="7619760" cy="9832680"/>
        </p:xfrm>
        <a:graphic>
          <a:graphicData uri="http://schemas.openxmlformats.org/drawingml/2006/table">
            <a:tbl>
              <a:tblPr/>
              <a:tblGrid>
                <a:gridCol w="846360"/>
                <a:gridCol w="847080"/>
                <a:gridCol w="1090800"/>
                <a:gridCol w="601920"/>
                <a:gridCol w="847080"/>
                <a:gridCol w="846720"/>
                <a:gridCol w="846360"/>
                <a:gridCol w="847080"/>
                <a:gridCol w="8463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14520" y="-1477800"/>
          <a:ext cx="609840" cy="5173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the off brand crackers more than the name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name brand pretzels than the off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the off brand cheez-it than the name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0:50Z</dcterms:created>
  <dc:creator>STERLING  USD376</dc:creator>
  <dc:description/>
  <dc:language>en-US</dc:language>
  <cp:lastModifiedBy>USD376</cp:lastModifiedBy>
  <dcterms:modified xsi:type="dcterms:W3CDTF">2010-02-11T17:15:01Z</dcterms:modified>
  <cp:revision>3</cp:revision>
  <dc:subject/>
  <dc:title>Brand Foods</dc:title>
</cp:coreProperties>
</file>